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D14-95E7-4005-8A61-A867D373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C62-BE7A-413F-A48A-6BAB8DA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7E-C91B-44A5-9FB8-EA5CB5D1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CA7-0737-420E-901A-4290CCF7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3F8-94DE-4E82-A7A8-9B193A0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DEA-D217-4096-AD8B-11C4150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223-A146-4327-BD83-98E9032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64C-795F-442A-A8EF-1319748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71D-DF81-4C1C-9BC3-BAE2C00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9F1-9B82-41E6-AF5C-E68DA88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4CC-F52B-4875-8D91-928D287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893-9E7E-4C7D-8F5A-1E0C07D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8914-B3BF-4CC5-9F93-3CFCC852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yopia" TargetMode="External"/><Relationship Id="rId2" Type="http://schemas.openxmlformats.org/officeDocument/2006/relationships/hyperlink" Target="http://en.wikipedia.org/wiki/Fluorescent_ligh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579132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 Zheng Y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5 Resi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2552760"/>
            <a:ext cx="5334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y IRS Presen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informa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Myop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a is a refractive defect of the eye in which light produces image focus in front of the retina when accommodation is 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myopia see near objects clearly but far away objects will appear blur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stream eye care professionals most commonly correct myopia through the use of corrective lenses, such as glasses or contact l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Kinds of Light We Commonly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n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-emitting diode (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2209680" cy="163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1733400" cy="161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305424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81560" y="48006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Research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relationship between the kind of light you use affect the chances of the development or worsening of myopia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81916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1479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relationship between the type of light you use affect the chances of development or worsening of myo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, I will make my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I will plan out my survey and seek permission from the teacher in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at, I will distribute the survey to no less than 50 P5 pupils in m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llecting back all the surveys, I will compile my gathered data into a simpl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I will use the table and put the information into 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ly, I will check for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My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eye rest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person practices good eye care ha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spent on outdo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near work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 For Your Kind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My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luorescent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6:59:59Z</dcterms:created>
  <dc:creator>ECZY</dc:creator>
  <dc:description/>
  <dc:language>en-US</dc:language>
  <cp:lastModifiedBy>john one</cp:lastModifiedBy>
  <dcterms:modified xsi:type="dcterms:W3CDTF">2010-04-10T11:52:57Z</dcterms:modified>
  <cp:revision>7</cp:revision>
  <dc:subject/>
  <dc:title>Slide 1</dc:title>
</cp:coreProperties>
</file>